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FF9C2-95F3-4A9B-8CF9-0A5EB761853F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E20C8-792F-4C3E-890A-D52A601AB73B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BB5061-729E-43E3-90D0-4D27BB525705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2B45F-740E-4C61-A018-3F1671FF5A69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9BB46-A3EB-420E-AB69-4FF6092315E4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4506A-D81D-4743-98B1-D956CC6033BC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3BE55-3C5E-4B2F-97C5-92DDF1E0C143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9CC62-CB4B-47E1-BDCC-09C910106625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94EAB-4D4A-4726-A929-82511D79BA97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346B0-3042-4B21-A84E-074A6613F937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42908-08DA-4EE8-BE82-067E154D0CE5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78A87-5968-4E6A-9BFF-E55197D877BB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DCA-48B3-4B86-BCE6-9F8C55FE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E1D-4008-4E2E-81F6-83599259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A7D-A946-4760-9D53-8461B4D6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486-9090-4267-95C6-6F4981BD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D8FA-EADF-41C5-9976-E6BC2299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39D6-62A2-4138-B1BF-36B60803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5E7B-1E5A-4020-B04F-B4FC55BE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5D6D-DB95-448A-9551-28713056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F82D-EAF0-4879-9E5C-DF797D7F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DBFF-42AC-4080-BD56-90F5C37A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4AFB-06F6-4F5F-9C42-6EF21A33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6D7-1EDF-46D6-89E3-BCA14722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B0CA-D039-484C-9D15-825B399D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0EC5-8939-40E9-AB2E-C75F93D9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545F-4416-4EA0-BE41-5BF02389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9D29-9F81-46B8-8920-7A6F8EC7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1643-D6B6-47F6-9A5B-56428724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94E0B-1B86-47B8-A294-F461D1E8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395E5-8815-4902-9398-3B116610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9D22B-69DC-4186-8A1F-8C5871AF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0DB59-3848-4B92-BE0E-90BAADAD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4E971-A36E-4ABE-9E94-42EFD146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596-F95F-4281-B8C8-E5139484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A0966-CF43-49C4-9648-35E0122A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8D888-F378-496B-8040-4F8BC43C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D4B83-C764-4849-BD83-83FBCE2A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C2DF0-280B-4894-8690-821ABFFF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D5CF2-DD47-4612-8540-2BE05E9E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7A3AA-F39D-45B0-BA3A-0A7AA578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2DD32-034F-410D-836E-D8E9120D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5478A-A133-4E3C-B824-C494CD61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81AA6-BDD2-406D-ADC2-060D121B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25A76-5802-4226-ACA5-5E478A03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D6D-F208-4676-AC90-97D2801E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28CB0-1182-4647-9761-970DE385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BFEEA-8BF4-4431-A8BA-C3E5D831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5930A-0B54-4975-9113-E97911E2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A061C-2F28-4472-B2C8-926ACB0B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DC15F-6173-4F1F-B6E9-6AFE5CD9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6A62E-D4A6-4506-9ED6-A5A4A511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36DFD-25F1-41E9-9F5D-D06C641E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CC5A7-94F3-49DA-B252-8F25AE12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6CE47-379C-4754-9D8E-27FB3C12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BD7-8F09-4C1E-A3C5-771BE2F7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1B4-83F1-493A-93F6-0BE2DFB5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8A4-4014-4C7B-B38A-8B807B96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72E-EF27-4A3A-81D6-2B1B3E83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863A-4226-4C68-81B0-1F472663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8E5C5-7698-44DE-92EB-8E40A6E558DF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D592B-B4AA-416D-8226-FA4A134F1092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79E3D-B924-4965-BA2A-71D574F5BC42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DF45C2-40CE-4644-A006-E72D2A50979B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30400" y="1844280"/>
            <a:ext cx="58276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十一章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7640" y="3500280"/>
            <a:ext cx="8496360" cy="16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国际结算的单据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以及单据审核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四、其他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检验证明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产地证明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装箱单和重量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船公司证明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五、单据审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原则：单证相符和单单相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审单自动化趋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对不符点的处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、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商业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形式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关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领事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二、货运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的内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当事人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arr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hipp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signe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fying pa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分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已装船海运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清洁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记名提单和指示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倒签提单和预借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的国际公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牙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维斯比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汉堡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空运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铁路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邮包收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5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多式联运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保险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全损和部分损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共同海损和单独海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承保险别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基本险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PA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，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WA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，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LL RIS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附加险：一般附加险和特别附加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险单据种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险单和保险凭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流动保单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loating Policy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）和 预约保单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open Policy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4:40:37Z</dcterms:created>
  <dc:creator>lixiaojie</dc:creator>
  <dc:description/>
  <cp:keywords/>
  <dc:language>en-US</dc:language>
  <cp:lastModifiedBy>li carrie</cp:lastModifiedBy>
  <cp:lastPrinted>1899-12-30T00:00:00Z</cp:lastPrinted>
  <dcterms:modified xsi:type="dcterms:W3CDTF">2023-07-26T04:00:17Z</dcterms:modified>
  <cp:revision>8</cp:revision>
  <dc:subject/>
  <dc:title>第十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