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7990-BA3A-4895-82F1-32E4E2E7E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40B4-7F25-4A0E-92AF-942C23E2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BB2D-43F6-4D5F-9862-0416A0046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D1DD-9849-4435-86E3-01FCB62B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79A5-40B5-43DA-B8FE-1CFE5B992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51F9-ED51-4B04-A98E-BE521475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6498-3D1F-486A-BB8E-187816F9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D491-1281-4C71-B589-6D92E4E7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900D-D9B5-4486-83CA-16FB0587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FDE5-CF47-435C-BDE2-8046DAA4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8894-22E6-47D3-806D-AA1C6D98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1195-B191-4AB3-954D-EE30886B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9901-7BBC-42C1-B0D3-0367D123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A416-5264-4C45-B008-7DF93849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41E0-CE34-4F6B-B849-70022A59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5A91-6C65-48DA-9A55-66C12B343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A077-1ED4-406B-8F8B-50B65C0E7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B8A92-322B-4265-9D20-5638AFC3E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D40A7-D3DE-4380-BBFE-7A85BE0F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76BB0-180D-47AC-9534-48AD6962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B31D0-2473-487C-8349-0F5778A4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2D8FC-A0A6-487F-8FB5-525B069C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AF92-0FF5-4B9D-8C23-1E3352E4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EB289-B5A5-4966-89CB-84407345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5CA1B-73FD-4001-8236-8D28A075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D7FEF-F80B-478E-8D17-E9BBCEF8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DFC52-A687-498C-9A88-AD289933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76036-E333-4CD9-98BE-672FD9E6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1A177-48FD-4C3F-80BE-2E02610F1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308B1-2D38-4F27-9820-AD277288C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AA614-58AD-4DEB-9176-E9184724C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F6DCF-8BAB-4DB7-9B36-A05937D6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01477-17E2-4FD3-9B5D-25D040CF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1DEE-A602-4AB4-84A5-2874FEE4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60246-E480-4EF9-B520-85862478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344A4-E822-4BD7-90F5-5A7C7929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6EE9F-64CC-48B0-982D-EC120E2D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27230-AFB6-4CDD-90B4-8E48736E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9A4F9-6712-4B59-A465-B3A98DA3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7EEC4-ED2B-4A37-9B4D-ED72F716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91A43-D353-40F5-B16B-CB835D5A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AF24D-EFE2-4B8A-9496-3BE409444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88F02-0A20-4162-9167-68B75F599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2133-D001-46D0-98FB-A502D543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82F2-6E1A-4A1B-89DB-638035B6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361B-D00D-43A0-97B6-B060C33C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8749-00D1-43AF-9593-A806690F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BF3A-62E2-433D-BDDA-5D8C2E8E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59FA-698A-45FF-BEC4-A4E5682C4BC1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5C89-F735-40E2-9BB7-69A68E286505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FDA9-2914-43B5-9419-04DE186CAE21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CD70-49AB-4CFA-BF00-0F09C55B8CCC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90c226"/>
                </a:solidFill>
                <a:latin typeface="Times New Roman"/>
              </a:rPr>
              <a:t>第二章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7f7f7f"/>
                </a:solidFill>
                <a:latin typeface="Times New Roman"/>
              </a:rPr>
              <a:t>票据概述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（三）票据的丧失与票据权利补救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1.   </a:t>
            </a: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票据的丧失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2.   </a:t>
            </a: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票据权利的补救措施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公示催告制度，尤以德国与日本为代表；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公告、除权判决、实现票据权利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普通诉讼制度，尤以美国为代表。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     </a:t>
            </a: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实现付款请求权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 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（四）票据权利时效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二、利益返还权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50560" y="2060640"/>
            <a:ext cx="8210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三、票据抗辩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（一）票据抗辩的概念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对人抗辩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2.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对物抗辩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Times New Roman"/>
              </a:rPr>
              <a:t>对人抗辩事由主要有：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        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04040"/>
                </a:solidFill>
                <a:latin typeface="Times New Roman"/>
              </a:rPr>
              <a:t>欠缺原因关系或者非法原因关系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对物抗辩事由一般根据票据法的有关规定提出的，主要有：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欠缺应记载的事项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未到期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时效届满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债务人欠缺行为能力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无权代理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伪造或者变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保全手续欠缺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</a:rPr>
              <a:t>     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二）票据抗辩的限制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小结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练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</a:rPr>
              <a:t>第一节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</a:rPr>
              <a:t> 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</a:rPr>
              <a:t> 票据的概念及特性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一、票据的概念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票据，就是指出票人签发的，无条件的承诺由自己或委托他人支付一定金额的有价证券。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</a:rPr>
              <a:t>二、票据主要特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要式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形式要件齐全、记载合乎规范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无因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产生具有原因关系，如基础贸易合同，资金关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流通转让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流通转让形式：仅凭交付完成转让或者背书转让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流通转让的受让人，其所拥有的票据权利可能超越其前手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设权性和文义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27628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三、票据的功能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．  支付功能（支票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．  信用功能（汇票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．  流通功能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56920" y="860400"/>
            <a:ext cx="775476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90c226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90c226"/>
                </a:solidFill>
                <a:latin typeface="Times New Roman"/>
              </a:rPr>
              <a:t>第二节</a:t>
            </a:r>
            <a:r>
              <a:rPr b="0" lang="zh-CN" sz="3200" spc="-1" strike="noStrike">
                <a:solidFill>
                  <a:srgbClr val="90c226"/>
                </a:solidFill>
                <a:latin typeface="Arial"/>
              </a:rPr>
              <a:t>   </a:t>
            </a:r>
            <a:r>
              <a:rPr b="0" lang="zh-CN" sz="3200" spc="-1" strike="noStrike">
                <a:solidFill>
                  <a:srgbClr val="90c226"/>
                </a:solidFill>
                <a:latin typeface="Times New Roman"/>
              </a:rPr>
              <a:t> 票据法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   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一、票据法概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法就是规定票据种类、票据行为以及票据当事人权利义务等内容的法律规范的总称。票据法包括广义的和狭义的票据法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二、西方各国的票据法（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1930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以前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一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法国法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德国法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三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英国法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zh-CN" sz="3600" spc="-1" strike="noStrike">
              <a:solidFill>
                <a:srgbClr val="90c226"/>
              </a:solidFill>
              <a:latin typeface="仿宋_GB2312"/>
              <a:ea typeface="仿宋_GB2312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三、统一票据法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404040"/>
                </a:solidFill>
                <a:latin typeface="仿宋_GB2312"/>
                <a:ea typeface="仿宋_GB2312"/>
              </a:rPr>
              <a:t>  </a:t>
            </a: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（一）大陆法系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《统一汇票本票法公约》、《解决汇票本票法律冲突公约》和《汇票本票印花税法公约》《统一支票法公约》、《解决支票法律冲突公约》、《支票印花税法公约》。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（二）大陆法系与英美法系的分歧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（三）国际汇票和本票公约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四、我国票据法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</a:rPr>
              <a:t>第三节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</a:rPr>
              <a:t> 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</a:rPr>
              <a:t> 票据权利与票据抗辩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一、票据权利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一）票据权利的概念和分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</a:rPr>
              <a:t>付款请求权和追索权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二）票据权利的取得和行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</a:rPr>
              <a:t>1.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权利的取得主要有两种方式，即 原始取得和继受取得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</a:rPr>
              <a:t>2.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权利的行使，是指持票人请求票据债务人支付票据金额的行为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08:52:15Z</dcterms:created>
  <dc:creator>LENOVO-T60</dc:creator>
  <dc:description/>
  <cp:keywords/>
  <dc:language>en-US</dc:language>
  <cp:lastModifiedBy>li carrie</cp:lastModifiedBy>
  <cp:lastPrinted>1899-12-30T00:00:00Z</cp:lastPrinted>
  <dcterms:modified xsi:type="dcterms:W3CDTF">2023-07-26T04:03:13Z</dcterms:modified>
  <cp:revision>2</cp:revision>
  <dc:subject/>
  <dc:title>第二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