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F80-8447-4A42-A73C-123A2FF7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092-5BD5-4985-BDB8-983D31CF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7BF-994B-4F68-8E01-9EAC8788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2B5-6733-4BB5-9690-9D8B9D90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46F9-C231-484E-8732-9DE9EFAF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4E24-FFCA-4DC6-BFE9-5EDDD44A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1C2B-4736-409A-A56F-A4B1948D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2BFE-5260-48AD-BF62-F0CBAA05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EE39-A0A5-49D9-B1A6-A7AEDBC6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DEAB-D6BF-4340-AA5D-B222BFD8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D13C-CB68-4499-8513-ABCAE3B1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0DD-8E30-441E-8ED1-693EF837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776D-4A86-4EC7-AB36-151F240A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EA20-3FE0-431E-83FC-EF776640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DCE1-19F3-4565-B8B0-D4C250D1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D32E-2300-4E1C-B747-B15AE7DE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E40F-B080-4ABE-9804-458E034B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75D96-1414-4F3D-8F83-B44E1D06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4B55-1294-45C4-846D-DF67C654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4298-6366-42DE-827E-D3364348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CEB2-8C40-4BB2-AF47-E9348073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C6F5B-AF90-4828-9EF5-ACAEF637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CA9-5C9A-40D8-9004-0CDA5D1D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1323-1F19-4702-8818-1D1CCAA5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0382E-AB60-4210-8E09-9FEC1911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7EE02-D975-40E1-A998-296049C2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7252-8AD6-4B40-BC84-AB0F8F0C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7BB49-AACA-4037-B6CD-1B9C666C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5FFB8-446A-4FAA-9A1E-62902080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FA13-CD57-420F-BB2F-55774DAD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CC64A-45DB-497B-808B-092B29F1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E7B0D-8EC7-4EE9-822E-9F46B2E9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94E15-7145-4476-8956-3EF37787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21C-758E-4A21-9A07-936FE381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24971-347A-45CD-940E-B39D4CBA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BDE8D-AA24-4442-AB23-3ACE1C26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05350-53E9-47DF-B177-BF2F4B57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6926C-CBFE-418A-BB78-E2B59D03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F65E4-2A85-4796-858D-757CFF2B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B32AE-D717-434D-A0D8-E89BD664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4CAE6-2108-479A-8400-71390280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DE7D9-D6EA-4E4C-BA04-742104F0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8D69F-76F1-45B5-95E7-79D0DEF3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FE1-7292-4D84-AAB4-C712446E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216-9D87-4A8D-B714-DD71F3E3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9E9-FEEE-4FE9-A578-4CE9E14C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8382-629A-4143-B64D-1DD83A8D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F7B-3B1B-4E24-A06E-94A576C0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6BDBA-07FE-488F-BD7D-ED94350E222F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49482-FD93-40C4-A1CB-302D939F6C8F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2E732-07B0-4A01-856C-4B4C1294FE47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0A75F-0195-4C3A-955E-2B2B3A9BAC09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1988640"/>
            <a:ext cx="545004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</a:t>
            </a: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三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040" y="4051440"/>
            <a:ext cx="452124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汇票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某一特定事件发生后定期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the happening of a specified ev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days after bill of lading date pay to the order of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出票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付款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任意记载事项，主要有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担当付款行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 Banker designated as paye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(date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Bank Of Europ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预备付款人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feree in case of need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To:  C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 case of need refer 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BC Company, 129 Buffee Street, Lond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免作退票通知或者放弃拒绝证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or Protest waived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   无追索权（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 to u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3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三、汇票当事人及其权利义务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基本当事人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其他当事人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被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保证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参加承兑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or for hon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正当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 in due cours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imes New Roman"/>
              <a:ea typeface="方正姚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正当持票人的条件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给付对价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善意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票据逾期或者曾被拒绝承兑或付款，或者对任何人就票据提出的任何抗辨或者权利主张，均不知情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四、汇票的种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根据不同的标准，汇票可分为不同种类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即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ht Bill or Demand Draf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远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ime Bill or Usance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光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Clean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以及跟单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Documentary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   银行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ank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商业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rad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国内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land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外国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eign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二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汇票的行为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票据行为概念与特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狭义的票据行为与广义的票据行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票据行为具有要式性、无因性、文义性和独立性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出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的背书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概念和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（三）   背书的伪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特别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peci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, Shangha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空白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lank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  <a:ea typeface="方正姚体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汇票的概念和必要项目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汇票的概念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必要项目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当事人及其权利与义务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种类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限制性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  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D Company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附有条件的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livery of Bill of lading Nol23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 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委托收款背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for collection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ollection pay to the order of Bank of China ,Shanghai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for deposit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value in collection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6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设质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in pledg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7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回头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verse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又称还原背书或逆背书，是以票据债务人为被背书人的转让背书。如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签发一张以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为收款人的汇票，该汇票出票后的流通转让如下表所示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提示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esentme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五、汇票的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普通承兑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（二）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限制性承兑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条件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delivery of bills of la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部分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rti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for amount of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￡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00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限制地点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Loc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the Bank of Europe ,London and there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延长付款时间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Qualified acceptance as to tim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ninety days after sig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六、汇票的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七、汇票的退票、退票通知和拒绝证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通知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拒绝证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otes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</a:t>
            </a: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汇票的概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，就是指出票人签发的，无条件的承诺由自己或委托他人支付一定金额的有价证券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八、汇票的追索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九、汇票的参加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 for ho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 FOR HONO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f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B   Company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9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K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      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十、汇票的保证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e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 GUARANTEE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ccount of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ned by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d on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绝对必要项目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汇票字样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ill of exchang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命令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Unconditional order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in our No.I accoun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provided the goods the supply are complied with contrac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确定的金额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mou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利息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plus interest calculated at the rate of 3% per annum from the date hereof to the date of payment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分期付款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by ten equal consecutive monthly installments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支付其他货币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converted into US dollar at current rate of exchange.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的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限制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only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或者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 Transferable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指示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emonstra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order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来人抬头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earer Orde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六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（七）出票人签章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signature</a:t>
            </a: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票据上的相对必要项目，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付款日期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e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汇票是信用工具，其付款期限有两种，即期和远期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即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sight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mand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presentation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远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a fixed future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20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July 20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××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pay to the order 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出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date pay to the order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见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sigh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sight pay to the order of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8:19:14Z</dcterms:created>
  <dc:creator>chen xiaolong</dc:creator>
  <dc:description/>
  <cp:keywords/>
  <dc:language>en-US</dc:language>
  <cp:lastModifiedBy>li carrie</cp:lastModifiedBy>
  <cp:lastPrinted>1899-12-30T00:00:00Z</cp:lastPrinted>
  <dcterms:modified xsi:type="dcterms:W3CDTF">2023-07-26T04:07:32Z</dcterms:modified>
  <cp:revision>25</cp:revision>
  <dc:subject/>
  <dc:title>第三章        汇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