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ARBRAK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EA42-2374-4787-A1AE-DED602CFB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F791-6035-4FA0-A68F-6A8A8B89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0102-273E-4115-B4EA-DC416122C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83E1-70CE-438C-91E5-7B8B3C619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72EE-6E0D-4534-B1C5-68B32E6AC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BDB9-DCBF-408A-BC1D-40686C92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6DA42-D206-459D-9DC8-DFD4DC05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92E3-20B7-4B40-951F-61ABBF9A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33C1-E202-4D12-A316-1DB19EBE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F951D-2297-46F6-A795-1879DD4F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0B13-14AD-4ED2-8528-4EF7A24F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9A28-8C98-4A47-8D87-E549B1D9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83A4-771B-468B-A4C9-1BF6AEA8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F2C8E-A58D-4566-9D41-128F56E6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FF82-DCB4-42EB-8801-D996D516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F584A-331B-4C72-9AB1-77EDECA90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8A1C9-B985-4008-B13E-A5C623BE9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F3E7-CC15-44C5-BA53-103EECED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3851-BEC2-4CA6-8BBC-FFCE9A76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0DCA-398F-4152-B803-C9AEB9F4E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F8E6-271E-4D06-8322-487156FE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4D46-DB56-4098-A372-B06AA411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34FA-FBC2-4C44-84E5-D160948A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EC79-01EA-4531-8160-6FA897EF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1D8D-570E-48AF-A13E-E40EB9660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033F-4C74-41DF-99E9-D27F5955995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http://www.sufep.com/bookspic/978-7-5642-1415-9.F.141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第二节  保险公司的经营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经营的外部环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自然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人口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经济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四）政策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五）社会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六）文化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七）市场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保险公司经营的内部环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劳动者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经营技术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资金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四）信息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第三节  保险公司的经营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经营的一般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经济核算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随行就市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薄利多销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公司经营的特殊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风险大量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风险选择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风险分散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第四节   保险公司的经营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经营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市场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竞争理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效益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信息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公司经营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长期目标、中期目标和近期目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长期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中期目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近期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贡献目标、公司利益目标和个人利益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贡献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公司利益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个人利益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财务稳定性目标、持续发展目标和盈利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财务稳定性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持续发展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盈利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第一章  保险公司经营导论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个目标之间的关系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作为保险公司的经营管理部门，应当将财务稳定性目标、持续发展目标、盈利目标有机地结合起来，正确处理好三者的关系，在强调保证财务稳定性目标的基础上，对发展速度目标和盈利目标加以适当的平衡，否则利润和发展就成为无源之水、无本之木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复习思考题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理论费率  实际费率   监管费率  纯费率  附加费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寿险费率厘定的要素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析保险公司经营的内部环境和外部环境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经营的特殊原则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从保险公司财务管理的角度分析保险经营的目标以及相互关系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第一节  保险经营的商品属性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商品的使用价值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稳定器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经济助动器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管理器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商品的价值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用保险费形式表示，保险商品的价值为纯保费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R+L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附加保费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C+V+M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保险商品的特性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商品是一种无形的商品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商品是一种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非渴求商品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商品的消费是一种隐型消费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保险商品的价格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保险费率的种类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理论费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实际费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监管费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财产保险费率的厘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判断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分类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增减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财产保险费率多采用分类法和增减法来厘定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人寿保险费率厘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寿保险费率厘定要考虑以下三个基本要素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死亡率或生存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利息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营业费用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寿保险费率厘定要考虑的其他要素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退保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红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残废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保单中嵌入的各种选择权被保单持有人行使的概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09:04Z</dcterms:modified>
  <cp:revision>21</cp:revision>
  <dc:subject/>
  <dc:title>没有幻灯片标题</dc:title>
</cp:coreProperties>
</file>