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03F7-96DF-42F9-9826-52A1424A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D9C4-4469-4C36-B92F-9D840DB2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59B2-04C0-47AA-8CCC-BB12CD27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900A-D8A9-435B-AB0A-D8B5170A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7162-9DE5-40B2-BC4E-60B7F210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8EB0-4771-4EA3-847C-A2C38DB2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73A3-5BCE-444B-8F9D-74B55B1B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4651-BB80-4F53-B1CE-2D966AE3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929B-698D-4F85-B150-33C8C2F3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A97F-DA0B-4C67-A317-97B5043C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D3B2-8741-4A8C-BFBE-740D6991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EBBC-ED71-4269-81A1-147CFA26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5C91-DF96-4D59-8E61-CAADF217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EB53-8A1D-4873-A95E-0E0FA536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B526-96B4-4AF7-8152-34BF41A8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B0EF-7910-452A-A388-0FADFD68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F4F6-2A3B-416A-ADC3-F4C2A924F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E1A-AEEC-499F-99AC-32627C5E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F98C-E9DB-46FC-BA70-AAC0C700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D9B2-DA74-4F69-B733-E2EBD8BA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0CC9-A598-44BA-A26B-56167E8F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C18C-4DBD-4EFA-8DBB-C0EC4B3C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17AF-08D8-4224-8CEC-9F68A0F4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6D49-219D-4EED-92CF-F48DD776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51A1-2BC8-4DDD-B6F2-BC230B585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8834-72DB-42AB-856C-A69F5465C96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www.sufep.com/bookspic/978-7-5642-1415-9.F.14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二节  保险公司的经营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外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自然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人口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经济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政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五）社会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六）文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七）市场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经营的内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劳动者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经营技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资金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信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三节  保险公司的经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一般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经济核算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随行就市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薄利多销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的特殊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风险大量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风险选择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风险分散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四节   保险公司的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理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效益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信息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长期目标、中期目标和近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中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近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、公司利益目标和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司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、持续发展目标和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持续发展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第一章  保险公司经营导论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个目标之间的关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公司的经营管理部门，应当将财务稳定性目标、持续发展目标、盈利目标有机地结合起来，正确处理好三者的关系，在强调保证财务稳定性目标的基础上，对发展速度目标和盈利目标加以适当的平衡，否则利润和发展就成为无源之水、无本之木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复习思考题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  实际费率   监管费率  纯费率  附加费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寿险费率厘定的要素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公司经营的内部环境和外部环境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经营的特殊原则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从保险公司财务管理的角度分析保险经营的目标以及相互关系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一节  保险经营的商品属性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商品的使用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稳定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经济助动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管理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商品的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用保险费形式表示，保险商品的价值为纯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R+L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附加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C+V+M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商品的特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无形的商品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渴求商品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的消费是一种隐型消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商品的价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费率的种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际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管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财产保险费率的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判断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增减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财产保险费率多采用分类法和增减法来厘定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人寿保险费率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以下三个基本要素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死亡率或生存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利息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营业费用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的其他要素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退保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红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残废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保单中嵌入的各种选择权被保单持有人行使的概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09:04Z</dcterms:modified>
  <cp:revision>21</cp:revision>
  <dc:subject/>
  <dc:title>没有幻灯片标题</dc:title>
</cp:coreProperties>
</file>